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917E7-B6C2-4793-9352-DD22E1FCE0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1A615-8FF1-4223-A5DE-9EBA7CFB3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BE81F-5944-4132-AC7B-D0D3BB4FB1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87B6-A99E-49B9-B67F-14031DF0D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D42A-CA77-4257-9A88-0B5471B5C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2756EA-74EF-4EE8-B7FA-1AB9F55B3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A7F25C-4745-4187-B943-7B440AD31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CB84B0-EE9B-4C32-9957-608FD49D0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11C7EF-0836-4BBB-A442-48ED7F0A8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C5211F-71F7-4F5D-8D4B-B0112867D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877441-D612-4204-B419-E14F15903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1D9A2B-6337-4249-80CA-257ABDADC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539C66-E117-4804-B2E8-033A3EFC2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263A5F-E1B7-4CEA-951C-4725D6897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4D06D0-C88E-4F76-A38F-B932E797B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A2A4-EBB0-4EAB-9920-FFCA85263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685451-D0FF-483B-8215-C6010C880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92B118-7FBD-4094-8608-94CAD9BC1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037274-A02C-431C-93C3-49CB399DB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539957-9B36-4637-9CFE-E275242A8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34C0B4-84D1-4B49-A597-D5F73EBB6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6101A7-D43A-4004-B26A-CCE535871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3CD2F0-58A1-4D5E-AA83-6A587952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7DBA42-E3AD-4A0E-8027-D338CDA2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C75DE6-0413-4777-8636-317F3B9ED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756A28-98B4-4FD5-8AC9-03FC56C68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2BA8-DE1B-46F0-862A-D670E0087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9B6E74-BCCB-4575-B46C-778DA1895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AB9042-3960-4842-BE9E-42FC68E15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830D92-7A49-40E4-92E9-6C2274842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3F8931-74C9-4818-8E6E-1BA712298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CBC962-F4EE-4D8C-BCEC-591505E07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B66F40-02B3-41ED-A93E-DDA145A1F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28FAEC-794E-4328-B547-73EB41AD9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2E263B-3BA8-4990-A8E7-BF0578667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52F23F-81F7-46E8-8861-757EC081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98B53E-67BA-4E77-A772-38A4B201F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9BF52-2A8A-4A73-AE45-AB6BB2C7B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E6199A-76D9-46EB-9C72-253426668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79443D-92D5-40A7-92FF-FB3FFC9F7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C6D9C4-5484-44A2-8D51-439ADE081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CF9983-E6AD-45D2-920B-0426EA668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206C3A-6CF0-4D53-BA3A-569AC5989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20B7EE-0AFF-43B2-8E03-947C9DF7A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609B84-A816-4207-BB5D-59126D674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3865C3-1C84-4070-837E-BA715CCAA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500C1B-64F0-4FC8-9533-69124984A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3DBB0C-5513-4360-9F5E-75F0A26E5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75862-7948-429D-BDB0-2ABC9D7EA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995ACA-1859-425C-8C4A-83C743EBA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DC1758-8351-4D88-99F3-61C57FF2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CB1500-5C67-438E-81B8-2C28481E9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23F5D8-8406-4CA8-A27E-93516C15E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4D1114-465B-425D-8B74-1E1CB0237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98DC0-783B-47A4-922E-DCCA41A2A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DFE3E-77A5-4794-98FA-29C80A965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FA625-5A35-48DE-8600-BF16969D9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2AE86-5D9A-48ED-B7FE-BCEB6D5FE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8726C-4281-4556-B496-62A5BCEC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2FE9-159D-4737-B93F-71DDF9D06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38802-D56F-4836-9A16-55C443BF3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35B73-5425-46B3-B698-E5E178D3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4B138-1144-4AA1-AE3E-CE6408E14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88F90-33A4-4C1F-AB5C-79F988CFF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A143B-960A-4390-8771-008183D7F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537E1-2DAB-4450-A87B-A18ADD2F0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49136-0CF2-470B-998C-5A0BEF264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E5F1D-E855-48F3-9CC8-A14E5D809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81E17-90D3-465C-9A7E-88B6D32D3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D7A6E-C100-48C2-9948-193D39394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5B18-D78D-461A-A550-8853CDBAB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E2B98-EAAD-4C2A-8D63-17F97A7B9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70A6F-FB16-4483-82D1-EA88C3DD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CE129-FB1F-4D06-B1AC-3603D637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A1345-07CC-47F8-B59D-3948990C7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D0ABF-12AE-4B48-80FF-3AF03ABA8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EBAAD-91B3-4E50-9E2D-FDB919156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360DC-B483-40D7-8E69-EB5F25410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CAC75-2EBE-4DAC-823E-933831C7F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946CF-1760-467D-AE40-6CFAB34D5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D338A-D1AB-485F-B104-66597196B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7D64-8785-44B4-84F8-AC739D035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C8120-DB96-4A62-B3AD-2D44C52C7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DBCA7-CCF1-416B-A13C-8F952423E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63F44-6E53-4376-8F5E-052043F9B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BAC98-DF35-46D7-A675-A974C9B8E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CE244-4513-46DA-A474-26A2170B1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1D886-1BBA-4CDC-AD14-7AD8F4630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6CC98-353A-4700-90EF-A644FEA3E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6EEA8-FD75-4370-A01B-91A85BDB6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156F4-F26A-493F-93EF-C35FC7449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A16DA-4502-4FEB-9EA0-0A1D1DFF5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14F5-2B90-48B1-BE81-23A8C1480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144AEC-C26E-4B73-8E8D-98C24C43E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70903B-7D72-4673-AC20-D0B2CD90A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731375-58D5-48FB-930D-A231DD789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A39A14-79B8-4F6C-8D12-F83D9C331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8631EA-59BE-45C4-AC07-C45FE110B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20DF4-6169-4FA7-BA9E-9F97F97C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DEC6B6-1305-439E-8836-8CF77DD4F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8DF82-D1AC-48AD-AB1B-DDC5E51DD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4D9DD-72AA-453B-8C60-93B066D7F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5EC4F7-3183-492B-B551-292D042F6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EC66-21E2-4D1A-BDF4-4E8BF56C6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E8C86-188B-467A-8620-204CA8F1F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6FC501-4685-441A-B9C6-BCAB16A77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1EFE79-762D-42DC-B10D-5D886DCDB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CC2802-8E42-4597-957E-845F5DF32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D7025E-CC6A-4968-A837-B64D40A8C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492E75-6803-4C11-B8EE-183512114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E8346D-432A-4F69-BD89-CD84E62D4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C7E7B5-4CC9-45B7-9E39-3E1A64DF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4A7FA9-BDAD-4219-91FC-2C0B9A75C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4AC7C8-C2BA-473E-8006-AE0236482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5DB7-A10A-47DC-9318-8AC502313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6474C5-4586-4218-B359-8B6647241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070AAE-B595-4E9A-B88C-BBFA7CCD9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0EC14B-2708-443A-925E-D104CA508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8923ED-83E4-4C43-AB11-521E6FDE1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3AA5B1-271F-4A3B-8EBA-5C4FC524F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DAA566-F652-4807-A104-D4ED3FA77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64A583-16AC-434A-B40B-E1D234EA9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4A2592-04A0-49DC-A1C5-D4D797AFD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63D36D-6057-420B-9888-4F9194AED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C4DDE6-0AD9-4DDB-ADB6-10E226095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45F6-4B72-485B-B89D-0CF49DC8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28121F-C81C-46E9-AD16-16CE0F414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B1676F-F9F6-4299-8625-4DE9C64C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CD8178-4877-41D0-BD47-476BF100C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142559-D683-4640-BBDC-860EA041F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B23D4F-5188-410B-8050-C0B3397A2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18782E-8C84-4612-A9F0-B8C5C0379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87B179-7483-4101-9BEE-BB2ECBC64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A4E2E9-EBAF-42A0-BE96-53CFB98E3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582A0D-4882-450D-AE93-0497AB77A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E84E41-E756-4061-8EBB-AB8757DB3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76DC-0A67-43EA-A6FE-1A8EDD1D3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46E626-083D-40E2-88C4-14F4B6202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456266-B58D-4A31-88B0-9CC59836C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120412-B87D-4454-BCB0-314BE1BB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4EFEC5-6074-4F9C-9653-53FA410EA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2E41D3-9B0C-45EA-96B6-AC3C23835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EB64F0-B80A-4B2C-B5AE-31A3FFF40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F5DCE6-3CD7-4BE8-B7F8-5ADAFF984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376D52-E2F2-4CB5-95CC-AC876476C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87E43D-664E-4D07-ADFF-755D50CF2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951B9A-5071-4F50-A434-0E343C465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7B1F5-A203-472A-BB68-E7DB450CCE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13E74-BCA5-4FD4-A988-A9E28ABE01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51D88-B56C-4A88-A66C-7F1A297F5C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2901E-26C2-4003-B294-512346D39C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D4148-26DF-481D-98E7-A67EA1443B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12907-B52E-489A-BB0C-A9854790AD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B8852-4118-4687-AA60-DAD015DBB6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49D70-F741-468F-A6F6-3FF214448B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073C3-5DAA-4CCD-A73B-D941DC9D7B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C846C-5141-444B-BDB5-B3ADCD3D6E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2ABEB-4CF9-404B-8BB1-BE7D0A9D1AD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EF4D8-3233-4EDC-AF99-CB56B3B7AA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url?sa=X&amp;start=14&amp;oi=define&amp;ei=b726Sfz6I5GgM-XGjbII&amp;sig2=iO0LD4kH8qPfnXF8hpVVJQ&amp;q=http://www.cliftonpark.org/contentredirect.asp%3FMemberID%3D3798%26CategoryURL%3Darticles&amp;usg=AFQjCNEq4mKWaM9tZ9f5BSGGcVcYMJIWnA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FIREWALL     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 firewall is a piece of hardware or software program which protects a computer or network from attacks from intruders and hackers.</a:t>
            </a:r>
            <a:br>
              <a:rPr sz="1000"/>
            </a:br>
            <a:r>
              <a:rPr b="0" lang="en-US" sz="1000" spc="-1" strike="noStrike" u="sng">
                <a:solidFill>
                  <a:srgbClr val="00a3d6"/>
                </a:solidFill>
                <a:uFillTx/>
                <a:latin typeface="Georgia"/>
                <a:hlinkClick r:id="rId1"/>
              </a:rPr>
              <a:t>www.cliftonpark.org/contentredirect.asp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480060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RRISD must have firewalls in place in order to keep the flow of traffic on our network running smoothly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6" name="Picture 2" descr="C:\Documents and Settings\101eckertpa.RRISD\Local Settings\Temporary Internet Files\Content.IE5\RWBUFX4I\MCj04316220000[1].png"/>
          <p:cNvPicPr/>
          <p:nvPr/>
        </p:nvPicPr>
        <p:blipFill>
          <a:blip r:embed="rId2"/>
          <a:stretch/>
        </p:blipFill>
        <p:spPr>
          <a:xfrm>
            <a:off x="6858000" y="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480060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20:42:43Z</dcterms:created>
  <dc:creator>101eckertpa</dc:creator>
  <dc:description/>
  <dc:language>en-US</dc:language>
  <cp:lastModifiedBy>RRISD</cp:lastModifiedBy>
  <dcterms:modified xsi:type="dcterms:W3CDTF">2009-03-13T20:15:39Z</dcterms:modified>
  <cp:revision>3</cp:revision>
  <dc:subject/>
  <dc:title>FIREWALL      </dc:title>
</cp:coreProperties>
</file>